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21F-1798-4248-960E-B38A4AA3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143-EBA3-49FD-8592-509F3519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D3DD-1683-45F8-AFB7-76058517D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5EE-EDAC-42B6-9BE1-340AE2A4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8547-7F31-4D22-AB2F-4DC44B29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7C4B-FF55-4FFF-8E2C-5B4B1D14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E64F-374B-4BFA-BF82-5498D39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ADD2-C7B0-4A77-A5FA-CEF5589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09BA-91D8-46B3-99E1-067C5DA0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82F3-56E2-45E5-88E3-398534FE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4A2C-A1C7-42F5-B3BF-8A7A3AC5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4DF-A039-4F23-90FD-D3138AA1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5915-6803-48F3-BC2B-4CE57DC8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52E7-DDFC-4644-8427-BE57B610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D95D-FBD6-4A2E-9F7D-A2624AA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7646-6660-4180-A7D0-AD00CF69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110C-97A5-42B8-BDCB-D20841B8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53D26-60CA-4396-9D61-0F7B3C31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DAE66-96A9-40EC-9186-78DA9959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FB78-E493-4DFC-9B92-8A872BB7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7800-0BE2-4FAA-8BD6-56C2767A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23A8-CFF5-472A-BC25-42919851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9AB-7AD1-499B-A171-55B4CA7F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1A81-DB58-451E-8524-1DE5A4E4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EE24-D2BD-42FD-951E-FFFF7B7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F2496-E583-4249-8420-521B1F1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A6C0-2774-4AD4-8BB0-F2AEBCEE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0C9D-BC35-4DEF-B9AD-B7CF7B19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D57C9-8052-457B-9471-A504D838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AFF7-FBB5-4D20-B611-E7979FFD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F5696-451F-4664-A02A-3710773E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9AAF4-E48A-4DB9-947F-5E08E215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5BA0-6473-442F-AA4E-159A36B0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803-D0AB-4837-81F1-0D52661A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156F-B12B-4976-AB89-17FC5F74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32122-5332-4E5E-96EB-46C378C6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438DD-81E6-4B69-8C5E-C9B6763D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9658-E817-4D27-BCCF-D592DD29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FA74-5BAB-4DD5-A54B-A9C3A77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201D-58AD-44A3-836B-85CF49C2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E9C24-47DA-4560-9F4E-24EB8B8C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4876-09CF-4548-878B-48012575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190FD-912A-46C6-9A6E-8746829A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7A2-4823-4B54-8D2F-60508402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E58-B382-4CEA-9434-06FD1F31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378-F7E5-4750-B81A-05EF7BC9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E51-B2CC-4423-BE79-5A232D74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4D1-9499-45C1-8CF8-3FC0D005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E0C99-10BB-474B-835B-F8440EFD65BE}" type="slidenum"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85304-DFC7-4ABF-BBFB-3E669045BA86}" type="slidenum"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3A2CC-7A6E-4672-9716-AAE4277E4CD4}" type="slidenum"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D01DE-4CEB-47C0-A609-3D87AC800041}" type="slidenum"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6000" spc="-1" strike="noStrike">
                <a:solidFill>
                  <a:srgbClr val="ebebeb"/>
                </a:solidFill>
                <a:latin typeface="Century Gothic"/>
              </a:rPr>
              <a:t>Przedsiębiorstwo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8ad0d6"/>
                </a:solidFill>
                <a:latin typeface="Century Gothic"/>
              </a:rPr>
              <a:t>POJĘCIE, RODZAJE, FORM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Efekty skal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87280" y="2060280"/>
            <a:ext cx="7499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Zwiększenie nakładów czynników produkcji prowadzi do wzrostu rozmiarów produkcji. Jednakże podwojenie wszystkich czynników produkcji nie musi oznaczać, że produkcja także wzrośnie dwukrotnie. Należy rozgraniczyć trzy możliwości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stałe efekty skali, gdy rozmiary produkcji powiększają się w takim samym tempie, jak nakłady czynników produkcji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rosnące efekty skali, gdy procentowy wzrost rozmiarów produkcji jest większy od procentowego wzrostu nakładów czynników produkcji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malejące efekty skali, gdy rozmiary produkcji rosną wolniej niż nakłady czynników produkcji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Zysk księgowy a ekonomiczn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71280" y="1916280"/>
            <a:ext cx="7715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Zysk rachunkowy (księgowy) oznacza różnicę między utargiem całkowitym firmy (obliczamy go mnożąc ilość sprzedanego produktu przez jego cenę) a kosztami rachunkowymi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Natomiast zysk ekonomiczny (ponadnormalny, czysty, zerowy) stanowi różnicę między utargiem całkowitym przedsiębiorstwa a kosztami ekonomicznymi (Rekowski 1993: 174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Koszty księgowe (rachunkowe) obejmują wyłącznie faktyczne (udokumentowane) wydatki pieniężne związane z prowadzeniem działalności gospodarczej, takie jak koszty zakupu surowców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i materiałów, płace, amortyzacja, opłaty za energię, dzierżawę lokalu, ziemi itp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Koszty te określa się często jako koszty explici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Suma kosztów rachunkowych, alternatywnych i zysku normalnego stanowi koszty ekonomiczn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42560" y="1600200"/>
            <a:ext cx="7643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Zysk rachunkowy (księgowy) oznacza różnicę między utargiem całkowitym firmy (obliczamy go mnożąc ilość sprzedanego produktu przez jego cenę) a kosztami rachunkowymi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Natomiast zysk ekonomiczny (ponadnormalny, czysty, zerowy) stanowi różnicę między utargiem całkowitym przedsiębiorstwa a kosztami ekonomicznymi (Rekowski 1993: 174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Dawid Kamień 3GF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Pojęcie przedsiębiorstw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42560" y="1989000"/>
            <a:ext cx="7643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Przedsiębiorstwo jest wyodrębnioną pod względem ekonomicznym jednostką prowadzącą działalność produkcyjną, handlową lub usługową (Milewski, Kwiatkowski 2005: 107)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Odrębność ekonomiczna przedsiębiorstwa oznacza wydzielenie określonego majątku, pokrywanie wydatków z własnych przychodów, posiadanie w banku odrębnego rachunku rozliczeniowego. Formalnym wyrazem odrębności ekonomicznej jest zazwyczaj osobowość prawna, tj. zdolność do zawierania umów i wstępowania w stosunki cywilno-prawne z innymi podmiotami. Organizacyjnych wyrazem odrębności firmy jest sprawowanie zarządzania przez kierownictwo według zasad ustalonych w statucie przedsiębiorstwa oraz w regulaminach wewnętrznych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Formy własnośc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58560" y="2492280"/>
            <a:ext cx="7427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Z punktu widzenia form własności możemy wyodrębnić przedsiębiorstwa prywatne, spółdzielcze, państwowe, komunalne i przedsiębiorstwa będące własnością pracowników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półka jest umową, na mocy której wspólnicy podejmują wspólną działalność gospodarczą i dążą do osiągnięcia wspólnego celu (Milewski, Kwiatkowski 2005: 107). Biorąc pod uwagę przepisy normujące zasady tworzenia i działania spółek w Polsce, możemy wyodrębnić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półki cywilne, unormowane przepisami prawa cywilnego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półki prawa handlowego, których działanie reguluje kodeks spółek handlowych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Korzyści skal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19280" y="2276280"/>
            <a:ext cx="7067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Korzyści skali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pojawiają się wówczas, gdy wraz ze wzrostem rozmiarów produkcji jednostkowe koszty obniżają się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Majątek przedsiębiorstw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42560" y="220500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Przedsiębiorstwo posiada określony majątek umożliwiający prowadzenie działalności produkcyjnej, handlowej lub usługowej. Majątek przedsiębiorstwa można podzielić na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majątek trwały, tj. maszyny, urządzenia produkcyjne, budynki, środki transportu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majątek obrotowy, tj. materiały, paliwo i energia, produkcja w toku, wyroby gotowe, przedmioty nietrwałe, środki pieniężne (gotówka w kasie i na koncie w banku, czeki obce) oraz środki pieniężne w rozrachunkach (należności pieniężne u kontrahentów przedsiębiorstwa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Majątek przedsiębiorstwa może być finansowany w różny sposób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Źródła finansowania środków trwałych i obrotowych dzielimy na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fundusze własne przedsiębiorstwa, będące równowartością wkładu kapitałowego właściciela w przypadku przedsiębiorstw prywatnych i wyposażenia majątkowego otrzymanego z budżetu państwa w przypadku przedsiębiorstw państwowych, powiększonego o część zysku przeznaczoną na rozwój przedsiębiorstwa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fundusze obce, w skład których wchodzą kredyty bankowe, pożyczki i zobowiązania wobec dostawców, budżetu państwa i innych instytucj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Fundusze własne i obce określane są jako pasywa, gdyż w przeciwieństwie do aktywów nie odrywają aktywnej roli w działalności gospodarczej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Ponieważ każdy element majątku ma określone źródło finansowania, suma aktywów musi być równa sumie pasywów — jest to zasada równowagi bilansowej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Usystematyzowane zestawienie wszystkich elementów majątku i źródeł ich pochodzenia, sporządzone na określony dzień i w określonej formie nazywamy bilansem przedsiębiorstw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Czynniki produkcj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stałe czynniki produkcji — takie, których nakładów nie można zwiększyć w danym okresie (np. grunty i budynki)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zmienne czynniki produkcji — takie, których podaż może być zwiększona w danym okresie szybko i bez dodatkowych inwestycji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08:30:02Z</dcterms:created>
  <dc:creator>Katarzyna Godek</dc:creator>
  <dc:description/>
  <dc:language>en-US</dc:language>
  <cp:lastModifiedBy>admin</cp:lastModifiedBy>
  <dcterms:modified xsi:type="dcterms:W3CDTF">2022-06-23T06:22:51Z</dcterms:modified>
  <cp:revision>43</cp:revision>
  <dc:subject/>
  <dc:title>Prezentacja programu PowerPoint</dc:title>
</cp:coreProperties>
</file>